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79CA-710B-4A14-BE91-0D8D41857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BA4-D502-4115-9958-3E27CEB0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9F6-7785-4723-9E11-9F0235CE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AE0-4040-4BF0-9613-6B327E34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AB4-2778-452E-9FAC-D25B6637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BED0-C875-46EF-A8E2-DB87BC60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4E34-C3F6-4780-8A19-F3B58511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604D-0015-4F01-8038-E2A8D222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A154-9C90-41A1-B9C8-F055672A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40F2-472B-45EE-B8BC-922C4DB3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D518-F2EC-4B76-958B-C49643E5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26A8-6631-4DB3-9061-BCD5D2FF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FB5-692C-400A-BEF1-637630BA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72EE-F4C2-4F6A-ADD2-20238189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6AF0-63FD-4466-B5D0-693D0B65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D438-C2D5-4D4B-9E71-C3033D5E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EA15-EE8B-4EB3-A5D9-F48225D9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1361-61E4-4E25-885A-6B10FBD6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6DE-DAA9-4B8A-ACF7-B0C99F9B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618-002C-46A9-BFC1-387B3726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281-4D3F-4B21-8058-94496EA6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B3C-3621-4184-8AFD-12E3A02C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29A-05B7-4C10-B305-852E9189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324-2C0F-49C3-A48B-092E89FF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8A4-6A8F-425F-A2FF-B67AC189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A2C5-94B9-4E58-836F-A433ACCDBA8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6664-A2F7-44F8-9725-FBAC7111DB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elf-Disciplin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Restrai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0149481"/>
          <p:cNvPicPr/>
          <p:nvPr/>
        </p:nvPicPr>
        <p:blipFill>
          <a:blip r:embed="rId1"/>
          <a:stretch/>
        </p:blipFill>
        <p:spPr>
          <a:xfrm>
            <a:off x="5181480" y="1986120"/>
            <a:ext cx="297180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u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76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j0186348"/>
          <p:cNvPicPr/>
          <p:nvPr/>
        </p:nvPicPr>
        <p:blipFill>
          <a:blip r:embed="rId1"/>
          <a:stretch/>
        </p:blipFill>
        <p:spPr>
          <a:xfrm>
            <a:off x="5410080" y="1981080"/>
            <a:ext cx="26672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uppor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Discipline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Managemen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nternal Chain-of-Comman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Foundation of Self-Discipline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Self-Discipline Question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inking about your words and actions, and then making choices that are right for you and other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9" descr="j0195384"/>
          <p:cNvPicPr/>
          <p:nvPr/>
        </p:nvPicPr>
        <p:blipFill>
          <a:blip r:embed="rId1"/>
          <a:stretch/>
        </p:blipFill>
        <p:spPr>
          <a:xfrm>
            <a:off x="3351240" y="3902040"/>
            <a:ext cx="1798560" cy="18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Black Bea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“Black Bear”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3212640"/>
            <a:ext cx="716760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atient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monstrating uncomplaining endurance under distres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33"/>
                </a:solidFill>
                <a:latin typeface="Garamond"/>
              </a:rPr>
              <a:t>Key Concepts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Focu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8440" y="13716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j0216724"/>
          <p:cNvPicPr/>
          <p:nvPr/>
        </p:nvPicPr>
        <p:blipFill>
          <a:blip r:embed="rId1"/>
          <a:stretch/>
        </p:blipFill>
        <p:spPr>
          <a:xfrm>
            <a:off x="5791320" y="2077920"/>
            <a:ext cx="235908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Disce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j0292152"/>
          <p:cNvPicPr/>
          <p:nvPr/>
        </p:nvPicPr>
        <p:blipFill>
          <a:blip r:embed="rId1"/>
          <a:stretch/>
        </p:blipFill>
        <p:spPr>
          <a:xfrm>
            <a:off x="5334120" y="198108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07Z</dcterms:modified>
  <cp:revision>13</cp:revision>
  <dc:subject/>
  <dc:title>Character Education Self-discipline</dc:title>
</cp:coreProperties>
</file>